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4B5-3A8B-4BE6-A090-617DE09B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BDB-5F58-4093-89F5-F504715A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526-962F-4498-A9CE-E919EAAC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248-7087-4C56-91B7-FDAF0907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341-0D1A-4E5C-B4DE-8340A945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48E-9C9C-45C7-A61E-CEED559E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DBA-2F54-4BE7-9B84-935B9609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8DE-845A-4520-9908-04700B1E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74A-E710-44F1-A29C-411CB8C0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65A-2DBF-44D2-8C37-3A85577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A32-C2A6-43C3-A6A5-042A490A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CFC-DA12-44A2-A034-528E12E4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2F52-E47B-4223-A6A5-14A56893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empus Sans ITC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Tempus Sans ITC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dym itry"/>
          <p:cNvPicPr/>
          <p:nvPr/>
        </p:nvPicPr>
        <p:blipFill>
          <a:blip r:embed="rId1"/>
          <a:stretch/>
        </p:blipFill>
        <p:spPr>
          <a:xfrm>
            <a:off x="4876920" y="3886200"/>
            <a:ext cx="22622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vladimeer"/>
          <p:cNvPicPr/>
          <p:nvPr/>
        </p:nvPicPr>
        <p:blipFill>
          <a:blip r:embed="rId2"/>
          <a:stretch/>
        </p:blipFill>
        <p:spPr>
          <a:xfrm>
            <a:off x="1154160" y="3886200"/>
            <a:ext cx="148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Tempus Sans ITC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Higher prices make it harder to buy necessities, like food and clothes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ubarctoic.jpg"/>
          <p:cNvPicPr/>
          <p:nvPr/>
        </p:nvPicPr>
        <p:blipFill>
          <a:blip r:embed="rId3"/>
          <a:stretch/>
        </p:blipFill>
        <p:spPr>
          <a:xfrm>
            <a:off x="533520" y="419112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empus Sans ITC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Tempus Sans ITC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empus Sans ITC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Tempus Sans ITC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empus Sans ITC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Tempus Sans ITC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empus Sans ITC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nhaler.jpg"/>
          <p:cNvPicPr/>
          <p:nvPr/>
        </p:nvPicPr>
        <p:blipFill>
          <a:blip r:embed="rId1"/>
          <a:stretch/>
        </p:blipFill>
        <p:spPr>
          <a:xfrm rot="727200">
            <a:off x="5937120" y="40672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182240" y="41497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skates"/>
          <p:cNvPicPr/>
          <p:nvPr/>
        </p:nvPicPr>
        <p:blipFill>
          <a:blip r:embed="rId1"/>
          <a:stretch/>
        </p:blipFill>
        <p:spPr>
          <a:xfrm>
            <a:off x="4648320" y="5210280"/>
            <a:ext cx="1752480" cy="164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tent"/>
          <p:cNvPicPr/>
          <p:nvPr/>
        </p:nvPicPr>
        <p:blipFill>
          <a:blip r:embed="rId2"/>
          <a:stretch/>
        </p:blipFill>
        <p:spPr>
          <a:xfrm>
            <a:off x="2819520" y="5486400"/>
            <a:ext cx="1533240" cy="950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Tempus Sans ITC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Russians enjoy, hiking, 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Also enjoy skiing, skating, and playing ice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occer ball.jpg"/>
          <p:cNvPicPr/>
          <p:nvPr/>
        </p:nvPicPr>
        <p:blipFill>
          <a:blip r:embed="rId3"/>
          <a:stretch/>
        </p:blipFill>
        <p:spPr>
          <a:xfrm>
            <a:off x="533520" y="4724280"/>
            <a:ext cx="1838160" cy="1838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4467240" y="391176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empus Sans IT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In rural areas most people live in woo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Suburbs are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75% of people live in c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st"/>
          <p:cNvPicPr/>
          <p:nvPr/>
        </p:nvPicPr>
        <p:blipFill>
          <a:blip r:embed="rId1"/>
          <a:stretch/>
        </p:blipFill>
        <p:spPr>
          <a:xfrm>
            <a:off x="5257800" y="5054760"/>
            <a:ext cx="22096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 </cp:lastModifiedBy>
  <dcterms:modified xsi:type="dcterms:W3CDTF">2010-12-21T00:40:41Z</dcterms:modified>
  <cp:revision>12</cp:revision>
  <dc:subject/>
  <dc:title>Present Day Russia</dc:title>
</cp:coreProperties>
</file>